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D75-2D1E-40EF-9709-1D630BF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BDB-E8C0-468C-AE67-806158DE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9CE-4E33-41E4-BC26-4DEA771D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E08-CA35-4E3A-ADC4-EB0F91A2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72B-7DFE-40F0-8729-BB7E8F3F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141-ADBD-426E-85F0-13AC2F8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5F6-2BB4-43F6-A435-DF960019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8DF-03FB-49FC-8E6E-933CBF2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ED4-7D2C-4782-97AC-70F3385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BFD-ED9C-4CDD-B662-3D57A9BE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90B-C919-46BE-900B-CC63204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96A-7EF4-4C47-8F07-BE95084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FFBF-88EE-4E3A-8390-51E90E1F4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Gravit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the force attracting all objects toward each o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ass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– the amount of matter in an o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force of gravity on an o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2485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Inerti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tendency of an object to resist a change in mo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Newton’s First Law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an object at rest will stay at rest and an object in motion will stay in motion unless acted upon by a forc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Law of Gravit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every object in the universe attracts every other objec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8200" y="2311560"/>
            <a:ext cx="806940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 concluded that two factors–gravity and inertia–combine to keep the moon in orbit arou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2:28:58Z</dcterms:created>
  <dc:creator>skrial</dc:creator>
  <dc:description/>
  <dc:language>en-US</dc:language>
  <cp:lastModifiedBy>skrial</cp:lastModifiedBy>
  <dcterms:modified xsi:type="dcterms:W3CDTF">2010-09-20T14:32:45Z</dcterms:modified>
  <cp:revision>3</cp:revision>
  <dc:subject/>
  <dc:title>Slide 1</dc:title>
</cp:coreProperties>
</file>